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84B-0A5B-4B1B-A053-0693B472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A6D-48F6-4819-89F5-A554A1B4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8A9-6F66-40A9-B930-1C379888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D86-2E5E-4C6F-BC75-A050C3B4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D78-781E-42E8-905A-68573EBA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0A9-1DC5-4BFC-B1EB-0D1CBB2A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304-B8B0-4E19-AFFD-51B5032F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BE0-5A9F-4691-8E01-7A454799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C9C-97C1-4882-B44B-EA819EC7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34B-73F3-49C3-B1D7-F5E7791B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5F2-EA8C-4216-B33E-DEC36C0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7DC-4932-4318-B534-6E6BFC5D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3BE8-1473-40B5-81C6-1D1DE31CF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ranet.cps.k12.ll.us/Assessment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entic Assessment Principles &amp;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Enhanced Learn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tructional Design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delyn D. Gupe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Criteria for Scoring Portfo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fulness (including evidence of students’ monitoring of their own comprehe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and development in relation to key curriculum expectancies and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and application of key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ness, correctness, and appropriateness of products and processes presented in the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 of entries (e.g., use of multiple formats to demonstrate achievement of designated performance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er Review and Group Feed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evaluation of individual’s work by reviewers with the same or similar training (e.g., students reviewing the work of fellow stud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students an opportunity to be more involved in the lear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teachers to implement complex learning activities in large classes without (being discouraged by) having to read and evaluate each student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volvement of students in identifying standards and /or criteria to apply to their work and making judgements about the extent to which they have met these criteria and standar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oud, 1995, 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to 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ssessment should be a first thought, not an afterthough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ssess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various methods used to determine the extent to which students achieve the intended learning outcomes of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ll measures employed by teachers and schools to answer the question: Did students learn what they were supposed to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examples: quizzes, periodical tests, reports, term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uthentic Assess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traditional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s students’ abilities in real world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s to develop and measure multiple skills: cognitive skills, ability to integrate learning, creativity, ability to work collaboratively, and written and oral expression skills (instead of rote learning and passive test-ta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the learning process as much as the finished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of Authentic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folio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 and group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tudents to perform a task (e.g., answering a question, making a product) that requires the application of critical 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+ RUBRIC = PERFORMANC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eria for Selecting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task match the outcome you’re trying to mea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task require students to use critical thinking ski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ask worthwhile in use of instructional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assessment use engaging tasks from the “real worl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eria for Selecting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task be used to measure several outcome at o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asks fair and free from b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 task be cred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ask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ask clearly def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Herman, Aschbacher and winters, 1992, in Chicago Public schools Instructional Intrane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ntranet.cps.k12.ll.us/Assessment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ing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assessing complex and subjective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assessment more objective and consistent because it is criterion-refer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benchmarks against which to measure student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shows students how their work will be evaluated and what i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= a purposeful collection of student’s work that shows the student’s efforts, progress, and achievements in one or more areas of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represents student’s best work or best effort, student-selected samples of work related to learning outcomes being assessed, and evidence of growth and development towards mastery of learning outcomes (1. e., student’s self-ref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2:16:45Z</dcterms:created>
  <dc:creator>Student's</dc:creator>
  <dc:description/>
  <dc:language>en-US</dc:language>
  <cp:lastModifiedBy>Student's</cp:lastModifiedBy>
  <dcterms:modified xsi:type="dcterms:W3CDTF">2011-01-25T02:08:41Z</dcterms:modified>
  <cp:revision>7</cp:revision>
  <dc:subject/>
  <dc:title>Authentic Assessment Principles &amp; Methods</dc:title>
</cp:coreProperties>
</file>